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68E-1090-4731-A027-BF265D4A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F1A-F534-45FB-81CD-1DCF61B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23B-2E41-44CC-9701-B0055B7B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16A-A0FA-452D-BF31-D08AC661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4895-D67A-4CB6-B6D3-4BA65CE3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790F-6A4D-4BB3-A2DB-9FBFF19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087A-5353-47FE-8EF7-776186D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0DD-EAA2-4634-AA74-611167A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CCA-CAE3-4EF0-BA21-E6668AD0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FD52-EB3D-4020-B7F0-45DA5E0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D0C-CE8A-482B-ACC5-22D41B0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78A-3C54-4D45-AE07-860D7662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5C05-6702-4F16-8435-3F34CEF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CC76-ED39-45A2-BBC1-278081F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721-F411-4FAA-B287-8F753AF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BFD-F0BA-4ADA-8891-86685419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D051-71AB-4CAC-9EB8-8237064A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99D-C340-413D-903F-00F24A90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00F-8650-4CB1-84EA-E942EAB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696-0EDE-439A-8EFA-B683CBF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685-3574-4AE0-95D7-81B75BA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0E0-3BCC-4B7D-84CE-DF6BFF02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B5A-7D18-44BF-BEBD-41C1575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F47-1943-4764-8656-3FA9B7F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DA7-B7EB-49AA-9E93-029BB4805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152-E55D-49FB-A794-3A9BBD3B3E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Fox,_Vivica/gallery/SGG-071802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mdb.com/rg/action-box-name/headshot/media/rm916233472/nm113934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p_of_USA_TX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bout m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athan Stew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celeb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ca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t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Vivica A. Fox-SGG-0718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2697120" cy="426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Katt Willia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666880"/>
            <a:ext cx="2639880" cy="335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 of bi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mont,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Map of the United States with Texas highligh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971800"/>
            <a:ext cx="2724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- Brige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- Ed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hools attend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Bingman Elementary "/>
          <p:cNvPicPr/>
          <p:nvPr/>
        </p:nvPicPr>
        <p:blipFill>
          <a:blip r:embed="rId2"/>
          <a:stretch/>
        </p:blipFill>
        <p:spPr>
          <a:xfrm>
            <a:off x="990720" y="1523880"/>
            <a:ext cx="4505040" cy="131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South Park Middle School "/>
          <p:cNvPicPr/>
          <p:nvPr/>
        </p:nvPicPr>
        <p:blipFill>
          <a:blip r:embed="rId3"/>
          <a:stretch/>
        </p:blipFill>
        <p:spPr>
          <a:xfrm>
            <a:off x="990720" y="2895480"/>
            <a:ext cx="4524120" cy="1343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Odom Academy"/>
          <p:cNvPicPr/>
          <p:nvPr/>
        </p:nvPicPr>
        <p:blipFill>
          <a:blip r:embed="rId4"/>
          <a:stretch/>
        </p:blipFill>
        <p:spPr>
          <a:xfrm>
            <a:off x="990720" y="4267080"/>
            <a:ext cx="4524120" cy="134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57200" y="5457960"/>
            <a:ext cx="92584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c pe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ys-r-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s to go t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ash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ling 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 foo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3048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mus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 Way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k 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22:21Z</dcterms:created>
  <dc:creator>762913</dc:creator>
  <dc:description/>
  <dc:language>en-US</dc:language>
  <cp:lastModifiedBy>762913</cp:lastModifiedBy>
  <dcterms:modified xsi:type="dcterms:W3CDTF">2009-04-08T16:37:50Z</dcterms:modified>
  <cp:revision>3</cp:revision>
  <dc:subject/>
  <dc:title>About me</dc:title>
</cp:coreProperties>
</file>